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69952-7ACD-4536-A938-EB319A67E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7B34C-BA3E-4951-936F-D77E6B10B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2A451-F3CF-41AF-9292-87359439D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DEB4B-054A-47B9-BE68-D6C0C9E8E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24745-63C8-4A45-BA31-1D97BDD23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D0657-2E80-4220-88A6-59B090F84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15068-48A6-426B-A022-C049739E8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B64C3-AD3B-4D35-A235-020250F03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533E9-2AE1-4687-B0BE-D37B2BE40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49000" y="107640"/>
            <a:ext cx="8042040" cy="61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50429-53D1-4CD0-9B62-7D4A7A048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5907D-7266-47A5-AA61-AD00924C4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CC098-13B7-40C7-9EDA-00B374A6B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74F72-A95C-4206-A02D-00E451C27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0275E-1B09-4507-87E4-5C5C250C4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B8EAD-C81B-4112-A0FD-FE631BC87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FA980-F5DE-453F-ADC2-29B5A914A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1987F-A6BD-422F-9CAD-2968C5D4B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5CD60-495D-4253-BD06-F4E7D109E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F2394-109D-49F8-812A-8E15F56F7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051F6-574D-4F39-9AFA-AB94813A7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49000" y="107640"/>
            <a:ext cx="8042040" cy="61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2221E-D2FD-4A92-841B-ADD679D86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FA15A-3597-412A-8376-D2B8369A1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10C34-5343-4188-A112-9ECF32B76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EC719-6276-4135-BD4B-27BB43DC0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Click to edit the title text format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2" marL="9684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3" marL="1263600" indent="-295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4" marL="15462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5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6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4960" y="6275520"/>
            <a:ext cx="4840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F5B58-2D3D-4DBF-A8C4-8A4DF645B6DE}" type="slidenum"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1328760" y="1295280"/>
            <a:ext cx="6486480" cy="31528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Click to edit the title text format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2" marL="9684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3" marL="1263600" indent="-295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4" marL="15462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5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6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264960" y="6275520"/>
            <a:ext cx="4840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77C62-95C3-4C87-8948-0FEF97AAAE82}" type="slidenum"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polleverywhere.com/free_text_polls/MjcxNjIwODU1" TargetMode="External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polleverywhere.com/" TargetMode="External"/><Relationship Id="rId3" Type="http://schemas.openxmlformats.org/officeDocument/2006/relationships/hyperlink" Target="http://www.prezi.com/" TargetMode="External"/><Relationship Id="rId4" Type="http://schemas.openxmlformats.org/officeDocument/2006/relationships/hyperlink" Target="http://www.follettsoftware.com/index.cfm" TargetMode="External"/><Relationship Id="rId5" Type="http://schemas.openxmlformats.org/officeDocument/2006/relationships/hyperlink" Target="https://librarian-provocateur.wikispaces.com/" TargetMode="External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polleverywhere.com/multiple_choice_polls/LTUzMTIzOTgyMw" TargetMode="Externa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63600" y="3635280"/>
            <a:ext cx="8416800" cy="147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2c7c9f"/>
                </a:solidFill>
                <a:latin typeface="News Gothic MT"/>
              </a:rPr>
              <a:t>Meeting 21</a:t>
            </a:r>
            <a:r>
              <a:rPr b="0" lang="en-US" sz="3800" spc="-1" strike="noStrike" baseline="30000">
                <a:solidFill>
                  <a:srgbClr val="2c7c9f"/>
                </a:solidFill>
                <a:latin typeface="News Gothic MT"/>
              </a:rPr>
              <a:t>st</a:t>
            </a:r>
            <a:r>
              <a:rPr b="0" lang="en-US" sz="3800" spc="-1" strike="noStrike">
                <a:solidFill>
                  <a:srgbClr val="2c7c9f"/>
                </a:solidFill>
                <a:latin typeface="News Gothic MT"/>
              </a:rPr>
              <a:t> Century Goals By Reimagining School Library Programs</a:t>
            </a:r>
            <a:endParaRPr b="0" lang="en-US" sz="38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363600" y="5122440"/>
            <a:ext cx="8416800" cy="97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98989"/>
                </a:solidFill>
                <a:latin typeface="News Gothic MT"/>
              </a:rPr>
              <a:t>Mark Ray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  <a:p>
            <a:pPr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98989"/>
                </a:solidFill>
                <a:latin typeface="News Gothic MT"/>
              </a:rPr>
              <a:t>Vancouver Public Schools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  <a:p>
            <a:pPr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98989"/>
                </a:solidFill>
                <a:latin typeface="News Gothic MT"/>
              </a:rPr>
              <a:t>Vancouver, Washington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  <a:p>
            <a:pPr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</p:txBody>
      </p:sp>
      <p:pic>
        <p:nvPicPr>
          <p:cNvPr id="85" name="Picture 10" descr="library cropped.jpg"/>
          <p:cNvPicPr/>
          <p:nvPr/>
        </p:nvPicPr>
        <p:blipFill>
          <a:blip r:embed="rId2"/>
          <a:stretch/>
        </p:blipFill>
        <p:spPr>
          <a:xfrm>
            <a:off x="1066680" y="762120"/>
            <a:ext cx="7010640" cy="28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49000" y="41256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7c9f"/>
                </a:solidFill>
                <a:latin typeface="News Gothic MT"/>
              </a:rPr>
              <a:t>Understanding the situation</a:t>
            </a: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 </a:t>
            </a:r>
            <a:br>
              <a:rPr sz="4600"/>
            </a:br>
            <a:r>
              <a:rPr b="0" lang="en-US" sz="4200" spc="-1" strike="noStrike">
                <a:solidFill>
                  <a:srgbClr val="2c7c9f"/>
                </a:solidFill>
                <a:latin typeface="News Gothic MT"/>
              </a:rPr>
              <a:t>What keeps us up at night</a:t>
            </a: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 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360" y="1904760"/>
            <a:ext cx="7543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Evolving core and extended state standards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Dynamic 21</a:t>
            </a:r>
            <a:r>
              <a:rPr b="0" lang="en-US" sz="2800" spc="-1" strike="noStrike" baseline="30000">
                <a:solidFill>
                  <a:srgbClr val="595959"/>
                </a:solidFill>
                <a:latin typeface="News Gothic MT"/>
              </a:rPr>
              <a:t>st</a:t>
            </a: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-century learning goals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neaking suspicion that we </a:t>
            </a:r>
            <a:br>
              <a:rPr sz="2800"/>
            </a:b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are not getting the job done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pic>
        <p:nvPicPr>
          <p:cNvPr id="109" name="Picture 3" descr="MP900401828.JPG"/>
          <p:cNvPicPr/>
          <p:nvPr/>
        </p:nvPicPr>
        <p:blipFill>
          <a:blip r:embed="rId2"/>
          <a:stretch/>
        </p:blipFill>
        <p:spPr>
          <a:xfrm>
            <a:off x="6629400" y="3809880"/>
            <a:ext cx="1346040" cy="2017800"/>
          </a:xfrm>
          <a:prstGeom prst="rect">
            <a:avLst/>
          </a:prstGeom>
          <a:ln w="0">
            <a:noFill/>
          </a:ln>
          <a:effectLst>
            <a:outerShdw dist="126770" dir="2700000" blurRad="0" rotWithShape="0">
              <a:srgbClr val="80808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2"/>
          <p:cNvSpPr/>
          <p:nvPr/>
        </p:nvSpPr>
        <p:spPr>
          <a:xfrm>
            <a:off x="549360" y="412920"/>
            <a:ext cx="8042040" cy="13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7c9f"/>
                </a:solidFill>
                <a:latin typeface="News Gothic MT"/>
              </a:rPr>
              <a:t>Understanding the situation</a:t>
            </a: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 </a:t>
            </a:r>
            <a:br>
              <a:rPr sz="4600"/>
            </a:br>
            <a:r>
              <a:rPr b="0" lang="en-US" sz="4200" spc="-1" strike="noStrike">
                <a:solidFill>
                  <a:srgbClr val="2c7c9f"/>
                </a:solidFill>
                <a:latin typeface="News Gothic MT"/>
              </a:rPr>
              <a:t>Stuck between AYP &amp; 21C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Oval Callout 3"/>
          <p:cNvSpPr/>
          <p:nvPr/>
        </p:nvSpPr>
        <p:spPr>
          <a:xfrm>
            <a:off x="380880" y="1828800"/>
            <a:ext cx="6400800" cy="3657600"/>
          </a:xfrm>
          <a:prstGeom prst="wedgeEllipseCallout">
            <a:avLst>
              <a:gd name="adj1" fmla="val -20833"/>
              <a:gd name="adj2" fmla="val 62500"/>
            </a:avLst>
          </a:prstGeom>
          <a:gradFill rotWithShape="0">
            <a:gsLst>
              <a:gs pos="0">
                <a:srgbClr val="f67309"/>
              </a:gs>
              <a:gs pos="100000">
                <a:srgbClr val="fec3af"/>
              </a:gs>
            </a:gsLst>
            <a:lin ang="5400000"/>
          </a:gradFill>
          <a:ln w="12600">
            <a:solidFill>
              <a:srgbClr val="e272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5920" indent="-1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News Gothic MT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News Gothic MT"/>
              </a:rPr>
              <a:t>The technology that enables connected teaching is available now, but not all the conditions necessary to leverage it are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Oval Callout 4"/>
          <p:cNvSpPr/>
          <p:nvPr/>
        </p:nvSpPr>
        <p:spPr>
          <a:xfrm>
            <a:off x="2971800" y="1752480"/>
            <a:ext cx="5943600" cy="4191120"/>
          </a:xfrm>
          <a:prstGeom prst="wedgeEllipseCallout">
            <a:avLst>
              <a:gd name="adj1" fmla="val -20833"/>
              <a:gd name="adj2" fmla="val 62500"/>
            </a:avLst>
          </a:prstGeom>
          <a:gradFill rotWithShape="0">
            <a:gsLst>
              <a:gs pos="0">
                <a:srgbClr val="84c800"/>
              </a:gs>
              <a:gs pos="100000">
                <a:srgbClr val="cce7b3"/>
              </a:gs>
            </a:gsLst>
            <a:lin ang="5400000"/>
          </a:gradFill>
          <a:ln w="12600">
            <a:solidFill>
              <a:srgbClr val="7db6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440" indent="-1440">
              <a:lnSpc>
                <a:spcPct val="100000"/>
              </a:lnSpc>
              <a:tabLst>
                <a:tab algn="l" pos="0"/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News Gothic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News Gothic MT"/>
              </a:rPr>
              <a:t>[Students’] vision is much broader than the individual technology components often described in local education technology plans and more focused on transformational changes in the learning process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Oval Callout 5"/>
          <p:cNvSpPr/>
          <p:nvPr/>
        </p:nvSpPr>
        <p:spPr>
          <a:xfrm>
            <a:off x="609480" y="2133720"/>
            <a:ext cx="7086600" cy="403848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2c7c9f"/>
          </a:solidFill>
          <a:ln w="25560">
            <a:solidFill>
              <a:srgbClr val="1d59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8640" indent="-1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 MT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News Gothic MT"/>
              </a:rPr>
              <a:t>Can classroom teachers alone, stressed by assessment testing and ever-growing paperwork burdens, help students figure this all out?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49000" y="41256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7c9f"/>
                </a:solidFill>
                <a:latin typeface="News Gothic MT"/>
              </a:rPr>
              <a:t>Understanding the situation</a:t>
            </a: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 </a:t>
            </a:r>
            <a:br>
              <a:rPr sz="4600"/>
            </a:b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Guiding questions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549360" y="1904760"/>
            <a:ext cx="45561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How do we make 21</a:t>
            </a:r>
            <a:r>
              <a:rPr b="0" lang="en-US" sz="3200" spc="-1" strike="noStrike" baseline="30000">
                <a:solidFill>
                  <a:srgbClr val="595959"/>
                </a:solidFill>
                <a:latin typeface="News Gothic MT"/>
              </a:rPr>
              <a:t>st</a:t>
            </a: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 century learning happen with decreased funding, staffing and ability/willingness of educators to do more with less?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  <p:pic>
        <p:nvPicPr>
          <p:cNvPr id="116" name="Picture 3" descr="MP900409101.JPG"/>
          <p:cNvPicPr/>
          <p:nvPr/>
        </p:nvPicPr>
        <p:blipFill>
          <a:blip r:embed="rId2"/>
          <a:stretch/>
        </p:blipFill>
        <p:spPr>
          <a:xfrm>
            <a:off x="5562720" y="2057400"/>
            <a:ext cx="2535120" cy="3811680"/>
          </a:xfrm>
          <a:prstGeom prst="rect">
            <a:avLst/>
          </a:prstGeom>
          <a:ln w="0">
            <a:noFill/>
          </a:ln>
          <a:effectLst>
            <a:outerShdw dist="126770" dir="2700000" blurRad="0" rotWithShape="0">
              <a:srgbClr val="80808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49000" y="41256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7c9f"/>
                </a:solidFill>
                <a:latin typeface="News Gothic MT"/>
              </a:rPr>
              <a:t>Understanding the situation</a:t>
            </a: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 </a:t>
            </a:r>
            <a:br>
              <a:rPr sz="4600"/>
            </a:b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Guiding questions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981600" y="1904760"/>
            <a:ext cx="47815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How do we begin to respond to the needs of millennial learners for interactive, collaborative and dynamic learning environments?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  <p:pic>
        <p:nvPicPr>
          <p:cNvPr id="119" name="Picture 3" descr="MP900439416.JPG"/>
          <p:cNvPicPr/>
          <p:nvPr/>
        </p:nvPicPr>
        <p:blipFill>
          <a:blip r:embed="rId2"/>
          <a:stretch/>
        </p:blipFill>
        <p:spPr>
          <a:xfrm>
            <a:off x="685800" y="2209680"/>
            <a:ext cx="3048120" cy="3048120"/>
          </a:xfrm>
          <a:prstGeom prst="rect">
            <a:avLst/>
          </a:prstGeom>
          <a:ln w="0">
            <a:noFill/>
          </a:ln>
          <a:effectLst>
            <a:outerShdw dist="126806" dir="7559489" blurRad="0" rotWithShape="0">
              <a:srgbClr val="80808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49000" y="41256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7c9f"/>
                </a:solidFill>
                <a:latin typeface="News Gothic MT"/>
              </a:rPr>
              <a:t>Rethink school libraries</a:t>
            </a:r>
            <a:br>
              <a:rPr sz="3200"/>
            </a:b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Looking past the ‘L’ word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549000" y="190476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lnSpc>
                <a:spcPct val="8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Library, information and technology skills (LIT) are explicit in three guiding educational documents: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95959"/>
                </a:solidFill>
                <a:latin typeface="News Gothic MT"/>
              </a:rPr>
              <a:t>International Society for Technology in Education (ISTE) Educational Technology Standards</a:t>
            </a: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. Three standards are contained in a LIT program.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95959"/>
                </a:solidFill>
                <a:latin typeface="News Gothic MT"/>
              </a:rPr>
              <a:t>Partnership for 21st Century Learning Skills</a:t>
            </a: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. One of the three skill domains focuses on “Information, Media and Technology Skills.”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95959"/>
                </a:solidFill>
                <a:latin typeface="News Gothic MT"/>
              </a:rPr>
              <a:t>Washington Office of the Superintendent of Public Instruction (OSPI) Educational Technology Learning Standards. </a:t>
            </a: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Four of seven components align with LIT programs.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49000" y="41256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7c9f"/>
                </a:solidFill>
                <a:latin typeface="News Gothic MT"/>
              </a:rPr>
              <a:t>Rethink school libraries</a:t>
            </a: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 </a:t>
            </a:r>
            <a:br>
              <a:rPr sz="4600"/>
            </a:b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Why not libraries?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49000" y="190476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595959"/>
                </a:solidFill>
                <a:uFillTx/>
                <a:latin typeface="News Gothic MT"/>
              </a:rPr>
              <a:t>Program</a:t>
            </a: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 expressly designed to support curriculum and instruction in the schools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595959"/>
                </a:solidFill>
                <a:uFillTx/>
                <a:latin typeface="News Gothic MT"/>
              </a:rPr>
              <a:t>Professional</a:t>
            </a: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 tasked with collaboration and integration with students and teachers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595959"/>
                </a:solidFill>
                <a:uFillTx/>
                <a:latin typeface="News Gothic MT"/>
              </a:rPr>
              <a:t>Place</a:t>
            </a: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 designed to offer access to materials to support literacy, research and educational technology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49000" y="41256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7c9f"/>
                </a:solidFill>
                <a:latin typeface="News Gothic MT"/>
              </a:rPr>
              <a:t>See systemically</a:t>
            </a: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 </a:t>
            </a:r>
            <a:br>
              <a:rPr sz="4600"/>
            </a:b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What’s the catch?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549000" y="18284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595959"/>
                </a:solidFill>
                <a:uFillTx/>
                <a:latin typeface="News Gothic MT"/>
              </a:rPr>
              <a:t>Expand </a:t>
            </a: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vision of the role of the teacher librarian and the school library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595959"/>
                </a:solidFill>
                <a:uFillTx/>
                <a:latin typeface="News Gothic MT"/>
              </a:rPr>
              <a:t>Establish </a:t>
            </a: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trategic partnerships between teacher librarians and district services and administration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595959"/>
                </a:solidFill>
                <a:uFillTx/>
                <a:latin typeface="News Gothic MT"/>
              </a:rPr>
              <a:t>Streamline</a:t>
            </a: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 resource and </a:t>
            </a:r>
            <a:br>
              <a:rPr sz="2800"/>
            </a:b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library operations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595959"/>
                </a:solidFill>
                <a:uFillTx/>
                <a:latin typeface="News Gothic MT"/>
              </a:rPr>
              <a:t>Bridge </a:t>
            </a: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e analog gap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pic>
        <p:nvPicPr>
          <p:cNvPr id="126" name="Picture 3" descr="MP900422593.JPG"/>
          <p:cNvPicPr/>
          <p:nvPr/>
        </p:nvPicPr>
        <p:blipFill>
          <a:blip r:embed="rId2"/>
          <a:stretch/>
        </p:blipFill>
        <p:spPr>
          <a:xfrm>
            <a:off x="5334120" y="3962520"/>
            <a:ext cx="3124080" cy="2081160"/>
          </a:xfrm>
          <a:prstGeom prst="rect">
            <a:avLst/>
          </a:prstGeom>
          <a:ln w="0">
            <a:noFill/>
          </a:ln>
          <a:effectLst>
            <a:outerShdw dist="126770" dir="2700000" blurRad="0" rotWithShape="0">
              <a:srgbClr val="80808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49000" y="41256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7c9f"/>
                </a:solidFill>
                <a:latin typeface="News Gothic MT"/>
              </a:rPr>
              <a:t>See systemically</a:t>
            </a:r>
            <a:br>
              <a:rPr sz="3200"/>
            </a:b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Expand vision of ‘library’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9000" y="190476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News Gothic MT"/>
              </a:rPr>
              <a:t>Goal:</a:t>
            </a: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 Enrich and empower teacher librarians to be stronger educational leaders for students and teachers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News Gothic MT"/>
              </a:rPr>
              <a:t>Where we started: </a:t>
            </a: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Isolated successes; lack of 21</a:t>
            </a:r>
            <a:r>
              <a:rPr b="0" lang="en-US" sz="2400" spc="-1" strike="noStrike" baseline="30000">
                <a:solidFill>
                  <a:srgbClr val="595959"/>
                </a:solidFill>
                <a:latin typeface="News Gothic MT"/>
              </a:rPr>
              <a:t>st</a:t>
            </a: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-century focus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News Gothic MT"/>
              </a:rPr>
              <a:t>Where we are:</a:t>
            </a: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 Teacher librarian-as-technology facilitator; teacher librarian technology training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News Gothic MT"/>
              </a:rPr>
              <a:t>Where to go next: </a:t>
            </a: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Engage teacher librarians through visioning, planning, training and/or implementation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49000" y="41256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7c9f"/>
                </a:solidFill>
                <a:latin typeface="News Gothic MT"/>
              </a:rPr>
              <a:t>See systemically</a:t>
            </a:r>
            <a:br>
              <a:rPr sz="3200"/>
            </a:b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Build strategic partnerships 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190760" y="1904760"/>
            <a:ext cx="47084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News Gothic MT"/>
              </a:rPr>
              <a:t>Goal:</a:t>
            </a: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 Connect library, information and technology programs with one or more key departments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lnSpc>
                <a:spcPct val="9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IT, curriculum and instruction and/or literacy.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News Gothic MT"/>
              </a:rPr>
              <a:t>Where we started: </a:t>
            </a: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Programs operating independently of one another; lack of trust and communication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pic>
        <p:nvPicPr>
          <p:cNvPr id="131" name="Picture 5" descr="MP900285136 cropped.jpg"/>
          <p:cNvPicPr/>
          <p:nvPr/>
        </p:nvPicPr>
        <p:blipFill>
          <a:blip r:embed="rId2"/>
          <a:stretch/>
        </p:blipFill>
        <p:spPr>
          <a:xfrm>
            <a:off x="1219320" y="1981080"/>
            <a:ext cx="2666880" cy="3683160"/>
          </a:xfrm>
          <a:prstGeom prst="rect">
            <a:avLst/>
          </a:prstGeom>
          <a:ln w="0">
            <a:noFill/>
          </a:ln>
          <a:effectLst>
            <a:outerShdw dist="127098" dir="8217072" blurRad="0" rotWithShape="0">
              <a:srgbClr val="80808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49000" y="41256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7c9f"/>
                </a:solidFill>
                <a:latin typeface="News Gothic MT"/>
              </a:rPr>
              <a:t>See systemically</a:t>
            </a:r>
            <a:br>
              <a:rPr sz="3200"/>
            </a:b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Build strategic partnerships 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190760" y="1904760"/>
            <a:ext cx="44002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News Gothic MT"/>
              </a:rPr>
              <a:t>Where we are:</a:t>
            </a: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 K-12 Destiny/Cognite implementation; alignment with curriculum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News Gothic MT"/>
              </a:rPr>
              <a:t>Where to go next:</a:t>
            </a: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 Bring teacher librarians to the table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lnSpc>
                <a:spcPct val="9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Identify leaders to work with key district personnel and co-lead initiatives.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</p:txBody>
      </p:sp>
      <p:pic>
        <p:nvPicPr>
          <p:cNvPr id="134" name="Picture 3" descr="MP900427824.JPG"/>
          <p:cNvPicPr/>
          <p:nvPr/>
        </p:nvPicPr>
        <p:blipFill>
          <a:blip r:embed="rId2"/>
          <a:stretch/>
        </p:blipFill>
        <p:spPr>
          <a:xfrm>
            <a:off x="696960" y="2057400"/>
            <a:ext cx="3370320" cy="2895480"/>
          </a:xfrm>
          <a:prstGeom prst="rect">
            <a:avLst/>
          </a:prstGeom>
          <a:ln w="0">
            <a:noFill/>
          </a:ln>
          <a:effectLst>
            <a:outerShdw dist="126806" dir="7559489" blurRad="0" rotWithShape="0">
              <a:srgbClr val="80808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Expectations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549360" y="1599840"/>
            <a:ext cx="81374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This is about success-in-progress, not software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I don’t suffer poor presentations gladly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I will use good instructional practices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I think I can help you </a:t>
            </a:r>
            <a:r>
              <a:rPr b="0" i="1" lang="en-US" sz="3200" spc="-1" strike="noStrike">
                <a:solidFill>
                  <a:srgbClr val="595959"/>
                </a:solidFill>
                <a:latin typeface="News Gothic MT"/>
              </a:rPr>
              <a:t>think different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95959"/>
                </a:solidFill>
                <a:latin typeface="News Gothic MT"/>
              </a:rPr>
              <a:t>Incorrect grammar thanks to Apple, Inc.</a:t>
            </a: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49000" y="41256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7c9f"/>
                </a:solidFill>
                <a:latin typeface="News Gothic MT"/>
              </a:rPr>
              <a:t>See systemically</a:t>
            </a:r>
            <a:br>
              <a:rPr sz="3200"/>
            </a:b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Make libraries work better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549360" y="1904760"/>
            <a:ext cx="45561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News Gothic MT"/>
              </a:rPr>
              <a:t>Goal:</a:t>
            </a: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 Modernize operations to improve services, save money and allow teacher librarians to teach and lead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News Gothic MT"/>
              </a:rPr>
              <a:t>Where we started: </a:t>
            </a: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34 different servers, no sense of textbook inventory, lack of policy and procedure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pic>
        <p:nvPicPr>
          <p:cNvPr id="137" name="Picture 3" descr="MP900439527.JPG"/>
          <p:cNvPicPr/>
          <p:nvPr/>
        </p:nvPicPr>
        <p:blipFill>
          <a:blip r:embed="rId2"/>
          <a:stretch/>
        </p:blipFill>
        <p:spPr>
          <a:xfrm>
            <a:off x="5486400" y="1905120"/>
            <a:ext cx="2687760" cy="3581280"/>
          </a:xfrm>
          <a:prstGeom prst="rect">
            <a:avLst/>
          </a:prstGeom>
          <a:ln w="0">
            <a:noFill/>
          </a:ln>
          <a:effectLst>
            <a:outerShdw dist="126770" dir="2700000" blurRad="0" rotWithShape="0">
              <a:srgbClr val="80808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49000" y="41256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7c9f"/>
                </a:solidFill>
                <a:latin typeface="News Gothic MT"/>
              </a:rPr>
              <a:t>See systemically</a:t>
            </a:r>
            <a:br>
              <a:rPr sz="3200"/>
            </a:b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Make libraries work better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419720" y="1904760"/>
            <a:ext cx="41716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News Gothic MT"/>
              </a:rPr>
              <a:t>Where we are:</a:t>
            </a: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 K-12 resource integration; materials policy task force and creation of standard operating procedures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News Gothic MT"/>
              </a:rPr>
              <a:t>Where to go next:</a:t>
            </a: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 Review materials management policies and workflow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pic>
        <p:nvPicPr>
          <p:cNvPr id="140" name="Picture 3" descr="MP900448493.JPG"/>
          <p:cNvPicPr/>
          <p:nvPr/>
        </p:nvPicPr>
        <p:blipFill>
          <a:blip r:embed="rId2"/>
          <a:stretch/>
        </p:blipFill>
        <p:spPr>
          <a:xfrm>
            <a:off x="914400" y="2133720"/>
            <a:ext cx="3352680" cy="2235240"/>
          </a:xfrm>
          <a:prstGeom prst="rect">
            <a:avLst/>
          </a:prstGeom>
          <a:ln w="0">
            <a:noFill/>
          </a:ln>
          <a:effectLst>
            <a:outerShdw dist="127098" dir="8217072" blurRad="0" rotWithShape="0">
              <a:srgbClr val="80808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49000" y="41256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7c9f"/>
                </a:solidFill>
                <a:latin typeface="News Gothic MT"/>
              </a:rPr>
              <a:t>See systemically</a:t>
            </a:r>
            <a:br>
              <a:rPr sz="3200"/>
            </a:b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 Bridge the analog gap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49000" y="190476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42000" indent="-3420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News Gothic MT"/>
              </a:rPr>
              <a:t>Goal:</a:t>
            </a: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 Leverage millions of dollars invested in ‘analog’ resources like books, text materials and teachers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2000" indent="-3420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News Gothic MT"/>
              </a:rPr>
              <a:t>Where we started: </a:t>
            </a: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Computers and a network but no sense of purpose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2000" indent="-3420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News Gothic MT"/>
              </a:rPr>
              <a:t>Where we are:</a:t>
            </a: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 Flexible Learning Environments and Cognite Technology Pilots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2000" indent="-3420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News Gothic MT"/>
              </a:rPr>
              <a:t>Where to go next:</a:t>
            </a: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 Assess how to better use educational resources and educators to meet 21</a:t>
            </a:r>
            <a:r>
              <a:rPr b="0" lang="en-US" sz="2400" spc="-1" strike="noStrike" baseline="30000">
                <a:solidFill>
                  <a:srgbClr val="595959"/>
                </a:solidFill>
                <a:latin typeface="News Gothic MT"/>
              </a:rPr>
              <a:t>st</a:t>
            </a: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 century goals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49000" y="41256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7c9f"/>
                </a:solidFill>
                <a:latin typeface="News Gothic MT"/>
              </a:rPr>
              <a:t>Leave with solutions</a:t>
            </a: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 </a:t>
            </a:r>
            <a:br>
              <a:rPr sz="4600"/>
            </a:b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Where do I go next?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49000" y="190476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Expand vision of the role of teacher librarians and the school library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Build strategic partnerships </a:t>
            </a:r>
            <a:br>
              <a:rPr sz="2800"/>
            </a:b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between teacher librarians </a:t>
            </a:r>
            <a:br>
              <a:rPr sz="2800"/>
            </a:b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and district services and </a:t>
            </a:r>
            <a:br>
              <a:rPr sz="2800"/>
            </a:b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administration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pic>
        <p:nvPicPr>
          <p:cNvPr id="145" name="Picture 3" descr="MP900285128.JPG"/>
          <p:cNvPicPr/>
          <p:nvPr/>
        </p:nvPicPr>
        <p:blipFill>
          <a:blip r:embed="rId2"/>
          <a:stretch/>
        </p:blipFill>
        <p:spPr>
          <a:xfrm>
            <a:off x="6095880" y="2971800"/>
            <a:ext cx="2286000" cy="3436920"/>
          </a:xfrm>
          <a:prstGeom prst="rect">
            <a:avLst/>
          </a:prstGeom>
          <a:ln w="0">
            <a:noFill/>
          </a:ln>
          <a:effectLst>
            <a:outerShdw dist="126770" dir="2700000" blurRad="0" rotWithShape="0">
              <a:srgbClr val="80808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49000" y="41256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7c9f"/>
                </a:solidFill>
                <a:latin typeface="News Gothic MT"/>
              </a:rPr>
              <a:t>Leave with solutions</a:t>
            </a: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 </a:t>
            </a:r>
            <a:br>
              <a:rPr sz="4600"/>
            </a:b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Where do I go next?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549000" y="190476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Modernize resource and library operations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Bridge the analog gap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pic>
        <p:nvPicPr>
          <p:cNvPr id="148" name="Picture 3" descr="MP900427807.JPG"/>
          <p:cNvPicPr/>
          <p:nvPr/>
        </p:nvPicPr>
        <p:blipFill>
          <a:blip r:embed="rId2"/>
          <a:stretch/>
        </p:blipFill>
        <p:spPr>
          <a:xfrm>
            <a:off x="2438280" y="3240000"/>
            <a:ext cx="4724640" cy="3008520"/>
          </a:xfrm>
          <a:prstGeom prst="rect">
            <a:avLst/>
          </a:prstGeom>
          <a:ln w="0">
            <a:noFill/>
          </a:ln>
          <a:effectLst>
            <a:outerShdw dist="126770" dir="2700000" blurRad="0" rotWithShape="0">
              <a:srgbClr val="80808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202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2c7c9f"/>
                </a:solidFill>
                <a:latin typeface="News Gothic MT"/>
              </a:rPr>
              <a:t>What one word would you use to describe school libraries or teacher librarians?</a:t>
            </a:r>
            <a:r>
              <a:rPr b="0" lang="en-US" sz="4200" spc="-1" strike="noStrike">
                <a:solidFill>
                  <a:srgbClr val="2c7c9f"/>
                </a:solidFill>
                <a:latin typeface="News Gothic MT"/>
              </a:rPr>
              <a:t> </a:t>
            </a:r>
            <a:endParaRPr b="0" lang="en-US" sz="42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549000" y="2743200"/>
            <a:ext cx="804204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lnSpc>
                <a:spcPct val="8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7030a0"/>
                </a:solidFill>
                <a:uFillTx/>
                <a:latin typeface="News Gothic MT"/>
                <a:hlinkClick r:id="rId2"/>
              </a:rPr>
              <a:t>Polleverywhere.com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8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5959"/>
                </a:solidFill>
                <a:latin typeface="News Gothic MT"/>
              </a:rPr>
              <a:t>Text to the following number: 22333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8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5959"/>
                </a:solidFill>
                <a:latin typeface="News Gothic MT"/>
              </a:rPr>
              <a:t>First enter the number: 92691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8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5959"/>
                </a:solidFill>
                <a:latin typeface="News Gothic MT"/>
              </a:rPr>
              <a:t>Then enter a word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8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5959"/>
                </a:solidFill>
                <a:latin typeface="News Gothic MT"/>
              </a:rPr>
              <a:t>Then send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7c9f"/>
                </a:solidFill>
                <a:latin typeface="News Gothic MT"/>
              </a:rPr>
              <a:t>Leaving with solutions</a:t>
            </a:r>
            <a:br>
              <a:rPr sz="3200"/>
            </a:b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 Key resources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38840" indent="-43884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7030a0"/>
                </a:solidFill>
                <a:uFillTx/>
                <a:latin typeface="News Gothic MT"/>
                <a:hlinkClick r:id="rId2"/>
              </a:rPr>
              <a:t>Polleverywhere.com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438840" indent="-43884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7030a0"/>
                </a:solidFill>
                <a:uFillTx/>
                <a:latin typeface="News Gothic MT"/>
                <a:hlinkClick r:id="rId3"/>
              </a:rPr>
              <a:t>Prezi.com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438840" indent="-43884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7030a0"/>
                </a:solidFill>
                <a:uFillTx/>
                <a:latin typeface="News Gothic MT"/>
                <a:hlinkClick r:id="rId4"/>
              </a:rPr>
              <a:t>Follettsoftware.com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438840" indent="-43884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7030a0"/>
                </a:solidFill>
                <a:uFillTx/>
                <a:latin typeface="News Gothic MT"/>
                <a:hlinkClick r:id="rId5"/>
              </a:rPr>
              <a:t>Librarian Provocateur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737280" indent="-402120"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Or Google “librarian-provocateur”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737280" indent="-402120"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595959"/>
                </a:solidFill>
                <a:latin typeface="News Gothic MT"/>
              </a:rPr>
              <a:t>Not to be confused with “Agent Provocateur”</a:t>
            </a:r>
            <a:endParaRPr b="0" lang="en-US" sz="2500" spc="-1" strike="noStrike">
              <a:solidFill>
                <a:srgbClr val="595959"/>
              </a:solidFill>
              <a:latin typeface="News Gothic MT"/>
            </a:endParaRPr>
          </a:p>
          <a:p>
            <a:pPr lvl="1" marL="737280" indent="-402120"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595959"/>
                </a:solidFill>
                <a:latin typeface="News Gothic MT"/>
              </a:rPr>
              <a:t>Article links, etc. are listed under “NSBA”</a:t>
            </a:r>
            <a:endParaRPr b="0" lang="en-US" sz="2500" spc="-1" strike="noStrike">
              <a:solidFill>
                <a:srgbClr val="595959"/>
              </a:solidFill>
              <a:latin typeface="News Gothic MT"/>
            </a:endParaRPr>
          </a:p>
          <a:p>
            <a:pPr marL="438840" indent="-43884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mark.ray@vansd.org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Learning targets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549000" y="1599840"/>
            <a:ext cx="51656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42000" indent="-342000">
              <a:lnSpc>
                <a:spcPct val="8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5959"/>
                </a:solidFill>
                <a:latin typeface="News Gothic MT"/>
              </a:rPr>
              <a:t>Understand</a:t>
            </a: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 Vancouver Public Schools and the educational landscape vis à vis 21st century learning, teacher librarians and strategic planning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2000" indent="-342000">
              <a:lnSpc>
                <a:spcPct val="8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5959"/>
                </a:solidFill>
                <a:latin typeface="News Gothic MT"/>
              </a:rPr>
              <a:t>Rethink</a:t>
            </a: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 how library information and technology programs and teacher librarians can support 21st century learning initiatives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pic>
        <p:nvPicPr>
          <p:cNvPr id="90" name="Picture 4" descr="iStock_000011719519XXLarge-1.jpg"/>
          <p:cNvPicPr/>
          <p:nvPr/>
        </p:nvPicPr>
        <p:blipFill>
          <a:blip r:embed="rId2"/>
          <a:stretch/>
        </p:blipFill>
        <p:spPr>
          <a:xfrm>
            <a:off x="5867280" y="1752480"/>
            <a:ext cx="2768760" cy="3581640"/>
          </a:xfrm>
          <a:prstGeom prst="rect">
            <a:avLst/>
          </a:prstGeom>
          <a:ln w="0">
            <a:noFill/>
          </a:ln>
          <a:effectLst>
            <a:outerShdw dist="126770" dir="2700000" blurRad="0" rotWithShape="0">
              <a:srgbClr val="80808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Learning targets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724280" y="1599840"/>
            <a:ext cx="38671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lnSpc>
                <a:spcPct val="8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5959"/>
                </a:solidFill>
                <a:latin typeface="News Gothic MT"/>
              </a:rPr>
              <a:t>See</a:t>
            </a: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 how systemic investments can support these initiatives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8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5959"/>
                </a:solidFill>
                <a:latin typeface="News Gothic MT"/>
              </a:rPr>
              <a:t>Leave</a:t>
            </a: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 with four steps to leverage libraries and teacher librarians to meet 21</a:t>
            </a:r>
            <a:r>
              <a:rPr b="0" lang="en-US" sz="2800" spc="-1" strike="noStrike" baseline="30000">
                <a:solidFill>
                  <a:srgbClr val="595959"/>
                </a:solidFill>
                <a:latin typeface="News Gothic MT"/>
              </a:rPr>
              <a:t>st</a:t>
            </a: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-century needs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pic>
        <p:nvPicPr>
          <p:cNvPr id="93" name="Picture 3" descr="MP900427685.JPG"/>
          <p:cNvPicPr/>
          <p:nvPr/>
        </p:nvPicPr>
        <p:blipFill>
          <a:blip r:embed="rId2"/>
          <a:stretch/>
        </p:blipFill>
        <p:spPr>
          <a:xfrm>
            <a:off x="1676520" y="1676520"/>
            <a:ext cx="2590560" cy="3884400"/>
          </a:xfrm>
          <a:prstGeom prst="rect">
            <a:avLst/>
          </a:prstGeom>
          <a:ln w="0">
            <a:noFill/>
          </a:ln>
          <a:effectLst>
            <a:outerShdw dist="126988" dir="7803308" blurRad="0" rotWithShape="0">
              <a:srgbClr val="80808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Formative assessment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549000" y="1599840"/>
            <a:ext cx="50893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Get out your cell phones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In my presentation, you can leave them on “vibrate.”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Prepare to text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You may have to switch from T9 to 123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pic>
        <p:nvPicPr>
          <p:cNvPr id="96" name="Picture 3" descr="MP900438722.JPG"/>
          <p:cNvPicPr/>
          <p:nvPr/>
        </p:nvPicPr>
        <p:blipFill>
          <a:blip r:embed="rId2"/>
          <a:stretch/>
        </p:blipFill>
        <p:spPr>
          <a:xfrm>
            <a:off x="5638680" y="1523880"/>
            <a:ext cx="2692440" cy="4038840"/>
          </a:xfrm>
          <a:prstGeom prst="rect">
            <a:avLst/>
          </a:prstGeom>
          <a:ln w="0">
            <a:noFill/>
          </a:ln>
          <a:effectLst>
            <a:outerShdw dist="126770" dir="2700000" blurRad="0" rotWithShape="0">
              <a:srgbClr val="80808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2c7c9f"/>
                </a:solidFill>
                <a:latin typeface="News Gothic MT"/>
              </a:rPr>
              <a:t>What is your current perception of school libraries?</a:t>
            </a:r>
            <a:r>
              <a:rPr b="0" lang="en-US" sz="4200" spc="-1" strike="noStrike">
                <a:solidFill>
                  <a:srgbClr val="2c7c9f"/>
                </a:solidFill>
                <a:latin typeface="News Gothic MT"/>
              </a:rPr>
              <a:t> </a:t>
            </a:r>
            <a:endParaRPr b="0" lang="en-US" sz="42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7030a0"/>
                </a:solidFill>
                <a:uFillTx/>
                <a:latin typeface="News Gothic MT"/>
                <a:hlinkClick r:id="rId2"/>
              </a:rPr>
              <a:t>Polleverywhere.com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799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5959"/>
                </a:solidFill>
                <a:latin typeface="News Gothic MT"/>
              </a:rPr>
              <a:t>Text to the following number: 22333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799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News Gothic MT"/>
              </a:rPr>
              <a:t>Essential. </a:t>
            </a: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I can't imagine a school without them. Text the number </a:t>
            </a:r>
            <a:r>
              <a:rPr b="1" lang="en-US" sz="2400" spc="-1" strike="noStrike">
                <a:solidFill>
                  <a:srgbClr val="595959"/>
                </a:solidFill>
                <a:latin typeface="News Gothic MT"/>
              </a:rPr>
              <a:t>127164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799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News Gothic MT"/>
              </a:rPr>
              <a:t>Ephemeral. </a:t>
            </a: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I'm not sure how they fit into a 21st century school. Text the number </a:t>
            </a:r>
            <a:r>
              <a:rPr b="1" lang="en-US" sz="2400" spc="-1" strike="noStrike">
                <a:solidFill>
                  <a:srgbClr val="595959"/>
                </a:solidFill>
                <a:latin typeface="News Gothic MT"/>
              </a:rPr>
              <a:t>127165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799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News Gothic MT"/>
              </a:rPr>
              <a:t>Erstwhile. </a:t>
            </a: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I don't think they realize it's almost 2011. Text the number </a:t>
            </a:r>
            <a:r>
              <a:rPr b="1" lang="en-US" sz="2400" spc="-1" strike="noStrike">
                <a:solidFill>
                  <a:srgbClr val="595959"/>
                </a:solidFill>
                <a:latin typeface="News Gothic MT"/>
              </a:rPr>
              <a:t>127166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799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News Gothic MT"/>
              </a:rPr>
              <a:t>Expendable. </a:t>
            </a: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I can't afford them. </a:t>
            </a:r>
            <a:r>
              <a:rPr b="1" lang="en-US" sz="2400" spc="-1" strike="noStrike">
                <a:solidFill>
                  <a:srgbClr val="595959"/>
                </a:solidFill>
                <a:latin typeface="News Gothic MT"/>
              </a:rPr>
              <a:t>127167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7c9f"/>
                </a:solidFill>
                <a:latin typeface="News Gothic MT"/>
              </a:rPr>
              <a:t>Understanding the situation</a:t>
            </a:r>
            <a:br>
              <a:rPr sz="3200"/>
            </a:b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Who am I?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380520" y="1599840"/>
            <a:ext cx="8595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35160" indent="-335160">
              <a:lnSpc>
                <a:spcPct val="8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5959"/>
                </a:solidFill>
                <a:latin typeface="News Gothic MT"/>
              </a:rPr>
              <a:t>Teacher librarian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News Gothic MT"/>
              </a:rPr>
              <a:t>Skyview HS et. al.</a:t>
            </a:r>
            <a:endParaRPr b="0" lang="en-US" sz="2600" spc="-1" strike="noStrike">
              <a:solidFill>
                <a:srgbClr val="595959"/>
              </a:solidFill>
              <a:latin typeface="News Gothic MT"/>
            </a:endParaRPr>
          </a:p>
          <a:p>
            <a:pPr marL="335160" indent="-335160">
              <a:lnSpc>
                <a:spcPct val="8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5959"/>
                </a:solidFill>
                <a:latin typeface="News Gothic MT"/>
              </a:rPr>
              <a:t>Technology facilitator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News Gothic MT"/>
              </a:rPr>
              <a:t>Vancouver Public Schools</a:t>
            </a:r>
            <a:endParaRPr b="0" lang="en-US" sz="2600" spc="-1" strike="noStrike">
              <a:solidFill>
                <a:srgbClr val="595959"/>
              </a:solidFill>
              <a:latin typeface="News Gothic MT"/>
            </a:endParaRPr>
          </a:p>
          <a:p>
            <a:pPr marL="335160" indent="-335160">
              <a:lnSpc>
                <a:spcPct val="8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5959"/>
                </a:solidFill>
                <a:latin typeface="News Gothic MT"/>
              </a:rPr>
              <a:t>Rabble rouser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News Gothic MT"/>
              </a:rPr>
              <a:t>Blog: Librarian Provocateur</a:t>
            </a:r>
            <a:endParaRPr b="0" lang="en-US" sz="2600" spc="-1" strike="noStrike">
              <a:solidFill>
                <a:srgbClr val="595959"/>
              </a:solidFill>
              <a:latin typeface="News Gothic MT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News Gothic MT"/>
              </a:rPr>
              <a:t>Project LIT founding member</a:t>
            </a:r>
            <a:endParaRPr b="0" lang="en-US" sz="2600" spc="-1" strike="noStrike">
              <a:solidFill>
                <a:srgbClr val="595959"/>
              </a:solidFill>
              <a:latin typeface="News Gothic MT"/>
            </a:endParaRPr>
          </a:p>
          <a:p>
            <a:pPr marL="335160" indent="-335160">
              <a:lnSpc>
                <a:spcPct val="8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5959"/>
                </a:solidFill>
                <a:latin typeface="News Gothic MT"/>
              </a:rPr>
              <a:t>Plays well with administrators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News Gothic MT"/>
              </a:rPr>
              <a:t>Collaborations with HR, curriculum, IT, planning, facility design and higher education</a:t>
            </a:r>
            <a:endParaRPr b="0" lang="en-US" sz="26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49000" y="41256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7c9f"/>
                </a:solidFill>
                <a:latin typeface="News Gothic MT"/>
              </a:rPr>
              <a:t>Understanding the situation</a:t>
            </a:r>
            <a:br>
              <a:rPr sz="3200"/>
            </a:b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Who is VPS?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11520" y="1752120"/>
            <a:ext cx="45561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We are not Vancouver, CA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21,000 students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31 schools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21/6/4/2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Increasing diversity and poverty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Concurrent years of significant budget shortfalls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pic>
        <p:nvPicPr>
          <p:cNvPr id="103" name="Picture 6" descr="VPS school.JPG"/>
          <p:cNvPicPr/>
          <p:nvPr/>
        </p:nvPicPr>
        <p:blipFill>
          <a:blip r:embed="rId2"/>
          <a:stretch/>
        </p:blipFill>
        <p:spPr>
          <a:xfrm>
            <a:off x="750960" y="2057400"/>
            <a:ext cx="3592440" cy="2514600"/>
          </a:xfrm>
          <a:prstGeom prst="rect">
            <a:avLst/>
          </a:prstGeom>
          <a:ln w="0">
            <a:noFill/>
          </a:ln>
          <a:effectLst>
            <a:outerShdw dist="127137" dir="7137603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49000" y="41256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7c9f"/>
                </a:solidFill>
                <a:latin typeface="News Gothic MT"/>
              </a:rPr>
              <a:t>Understanding the situation</a:t>
            </a: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 </a:t>
            </a:r>
            <a:br>
              <a:rPr sz="4600"/>
            </a:br>
            <a:r>
              <a:rPr b="0" lang="en-US" sz="4200" spc="-1" strike="noStrike">
                <a:solidFill>
                  <a:srgbClr val="2c7c9f"/>
                </a:solidFill>
                <a:latin typeface="News Gothic MT"/>
              </a:rPr>
              <a:t>What keeps us up at night</a:t>
            </a: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 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549000" y="1904760"/>
            <a:ext cx="47847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Bearish budgetary outlook at all levels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ontinued pressure from national/state benchmarks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Growing private and public online and alternative competition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pic>
        <p:nvPicPr>
          <p:cNvPr id="106" name="Picture 3" descr="MP900178792.JPG"/>
          <p:cNvPicPr/>
          <p:nvPr/>
        </p:nvPicPr>
        <p:blipFill>
          <a:blip r:embed="rId2"/>
          <a:stretch/>
        </p:blipFill>
        <p:spPr>
          <a:xfrm>
            <a:off x="5562720" y="2057400"/>
            <a:ext cx="2462040" cy="3657600"/>
          </a:xfrm>
          <a:prstGeom prst="rect">
            <a:avLst/>
          </a:prstGeom>
          <a:ln w="0">
            <a:noFill/>
          </a:ln>
          <a:effectLst>
            <a:outerShdw dist="126770" dir="2700000" blurRad="0" rotWithShape="0">
              <a:srgbClr val="80808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1T21:36:47Z</dcterms:created>
  <dc:creator>Trial User</dc:creator>
  <dc:description/>
  <dc:language>en-US</dc:language>
  <cp:lastModifiedBy>VSD</cp:lastModifiedBy>
  <dcterms:modified xsi:type="dcterms:W3CDTF">2010-10-19T15:28:20Z</dcterms:modified>
  <cp:revision>104</cp:revision>
  <dc:subject/>
  <dc:title>Leveraging School Libraries</dc:title>
</cp:coreProperties>
</file>